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92C-50B9-435A-9BE9-340952BE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FB2-A5A2-4928-9C1F-8D18FF04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B2F82-1930-4E37-83ED-261B8848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0A92B-0F55-49AF-86A5-23A28A19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7D7A3-FC18-4B93-8686-19876C82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38422-F216-4A31-9923-28BDB592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5424A-2D60-4E23-A96C-7D5DE025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00FD8-665F-43E7-BBD1-EAA95889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0032D-3C77-4244-B74D-0F8BAF11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59DE2-BA37-45ED-87CA-A415B0AE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084DD-572D-401C-965D-C35E9888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11D85-A05B-446C-979D-47A1439B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12B-42FF-4818-AD45-4A898CD3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B421B-340F-4656-99F7-2523B9D7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244BC-89CC-4BB9-B7EA-9E08BA9C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AA4C2-AA14-4CBD-8AE3-C27DA5F3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5A57C-1E0E-4F06-861E-29170D4B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B1694-522D-45AA-8898-348084FD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C98C7-E1D2-4C0D-BFCE-4DE63955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77C3F-3F24-4CA9-95ED-8F64798B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E812D-6785-43A7-AED2-91162E2F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BC5F3-541C-4248-B65B-5243FBFC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57530-2B66-4AA1-B8DA-B5FAC960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B69-DB3B-40D4-9C88-DE6A272A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9DB3F-E8C1-4BB1-A934-73F7268E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57FE-A41F-482C-83B5-50C53C41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B02B-C5D1-4265-81F2-7DB12424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3E8C-72DE-4D7C-A3D3-90CAFED9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3B06-9ADB-4071-9D35-BF80AEFD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0B41-8A4A-40F1-A613-30D76442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046C-D689-4182-A0F7-B052D445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BE7C-D1AC-4723-B357-5143AC90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4DE-8962-4136-B161-297CEF8D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5602-8EB7-4B13-A88C-5547303D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0007-690D-4B81-B24B-CCA9CF06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6E63-BB18-4B63-A88C-413CF619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8AA2-4374-47DB-BF9B-EA71E691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6537-C935-4EA4-B671-3AAB3E44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958B-4392-43B2-B03E-D1E03953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C079-9DC4-4D60-B885-C5D9E51D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ECFE1-EFCC-44C2-A809-CC73A2F8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6807C-B567-4C91-A593-E510EDE7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5B4A8-D328-4BB2-A69A-37B95889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110-01F9-40F3-924F-6C8B11C1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DF137-515F-44CA-B62E-FD4A6809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B4274-EB03-4E8F-88F8-84F28863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184E0-1704-4AEF-A99B-5E301DEC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26697-A933-4B81-A58B-A7EFFFC9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1C8F-1ACF-4EE9-A916-0229D0D3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67D70-F28C-4B13-BD68-904AC634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E8F90-9036-4B02-B980-8811229A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4280C-517A-4DA3-925C-4FC3EB99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4A75E-19EE-48D2-AF2E-AC40B928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B82C8-37E7-49C2-A36D-BFBBA84A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634-D3F6-46DA-B55F-89DF5934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2901F-DE7A-400A-86D1-0229457F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4E307-3426-4975-818A-563BD52D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40C05-BA37-46A3-94E9-82CABA3B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3D825-676A-47B2-8C49-4281FCE9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5A5E9-5FEE-4523-9A10-89E97F9B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77923-4D6D-4935-BAEB-7C94A826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EEF53-C451-4311-A97B-4103FB50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2E022-D2A1-40CA-B0B0-16CBCCD9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D544D-2DB1-4CA6-B43F-AA7F7382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FDE32-AAE7-4A30-81C7-37656774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4BF-2D41-407B-A249-8ADE193A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73AD0-947E-45CC-870E-FCFD26FD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013A8-6A3F-4EAD-978A-5C97E22A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E7E3F-1C97-44B0-AFC9-ED0C1A91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DA850-04E6-4E11-AC9E-86DB82A1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42BC9-84C1-4286-9EFE-BCD60705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1293C-FCCD-41E8-A4B1-B7B27EE2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8DD23-F5A5-4A0E-922F-91956FF4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72D28-BDA8-4028-A747-3936DA08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58040-9CD3-4451-A2C8-7D009523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1DA96-4F95-4738-843A-00CFB3EF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034-B25C-465B-87A6-CE016C3E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4E081-2B8B-486A-826B-19B62D79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BECA8-ED5A-4368-A2C4-ED5EF2ED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F0C65-1492-4F85-91AB-EA3A6136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8AE55-D894-489E-8D90-CCC05CE1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BE434-C461-4032-9726-5BD41EAA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8EFFA-FE73-48A0-8371-E3C98633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D911E-CCBE-4E7A-B012-5E165177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6AB20-4F22-4921-8AAC-5D1F8BC8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42572-FFA9-49F7-8FAB-5376A43C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32300-3F33-47D3-9AC5-6ED574C6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0BB-1DE8-4A93-ADD5-A87EEB5C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80A42-AB3B-415C-8C5A-97CF14E0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2546F-D971-4D22-883F-C7BC661C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4B8DD-49DA-49B1-93A6-4447B349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AA249-2B5F-4E69-9839-A25449CB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C1248-F488-4322-ACA4-471C1628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2BD26-F69D-46BF-B2D1-B6D67265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E43C3-3AE8-45AA-9819-F768D3F8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E87E1-B1B1-4C1E-A915-CD2CAE47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89635-3663-45E5-B09A-B71315DF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FD9A4-5DE4-4F4A-8F5B-C7D21800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B9B-A5B5-4CEB-B0BF-22C73BEB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C050E-5F04-4A99-AAF9-74400C09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18F47-5F2B-4E86-B09A-BFD6D3A7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BE7B2-FEAE-4466-A180-E3FBF45B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5E2E0-146C-4358-88A9-81A132C6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B36C4-F026-413B-807D-0492F6F1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9039D-CD27-4C0E-AAAB-8D428D8C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9ACB5-7D9E-47C8-A599-BAE9632B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A8DC8-87A1-4CE1-9234-54951AC2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4C306-49BD-440C-A04C-F179DEC6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ABCA8-3C31-4D2B-B301-5AEB727F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5EA-AA7A-4799-99FE-CBBAECEF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DC0D4-07D7-4332-9C3A-E98D4C56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ED688-595A-48BE-9E84-F1A31B9F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02D7F-E06A-4728-8192-15661E3E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E13F7-A704-4549-B3FB-74CE0E89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18ABD-AE9D-41E7-91A7-6EBFF101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34C82-EF99-45DB-BE63-B4C218AE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32787-0239-4636-BFF3-1F0AC789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8E47D-7386-43BC-A459-5BF8259C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6731F-0773-4C0D-96B4-75408B2C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82E3D-8A22-4B53-A145-06E6065C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8A21-34BE-4690-8637-5B609B88C77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CE4E-2099-422F-A7BE-14611FBD296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A1A1-0BEE-4225-88BA-61B96445D21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4C39-E685-4647-925E-3103CC9B5D3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D1D3-F758-4E21-84FD-70CE031B25C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6B7F-CEDC-4D1B-A145-AA71922C6B3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A18A-F609-4601-9CD8-BBCAD363551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237F-3EE9-43D2-A476-8C88FC67D85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B95D-9091-4D25-89A6-3B496E84A41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BBFD-BC29-4140-B36F-0937280E528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2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1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안녕하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시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앉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erminate the following verbs with declarative, interrogative, and imperative e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하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히 계십시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 계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히 가십시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가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  <a:ea typeface="굴림"/>
              </a:rPr>
              <a:t>Study honorific expressions, talking up and dow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peaceful, be fine, be w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yes (In the dialogue here, it means ‘I’m fine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히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dverb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계시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olite expression of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stay, 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종결어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Terminative End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서술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Decla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의문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nterrog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명령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mpe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 (Part of ending, honorific suff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3498840" y="2133720"/>
            <a:ext cx="5400720" cy="2886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233280" y="285840"/>
            <a:ext cx="4343400" cy="2095560"/>
          </a:xfrm>
          <a:prstGeom prst="rect">
            <a:avLst/>
          </a:prstGeom>
          <a:ln w="0">
            <a:noFill/>
          </a:ln>
        </p:spPr>
      </p:pic>
      <p:sp>
        <p:nvSpPr>
          <p:cNvPr id="505" name="직사각형 3"/>
          <p:cNvSpPr/>
          <p:nvPr/>
        </p:nvSpPr>
        <p:spPr>
          <a:xfrm>
            <a:off x="4602240" y="3049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classroom.re.kr/uploadfile/content/content02/second04/data03/5_3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3"/>
          <a:stretch/>
        </p:blipFill>
        <p:spPr>
          <a:xfrm>
            <a:off x="3564000" y="5157720"/>
            <a:ext cx="4781520" cy="1533600"/>
          </a:xfrm>
          <a:prstGeom prst="rect">
            <a:avLst/>
          </a:prstGeom>
          <a:ln w="0">
            <a:noFill/>
          </a:ln>
        </p:spPr>
      </p:pic>
      <p:sp>
        <p:nvSpPr>
          <p:cNvPr id="507" name="직사각형 4"/>
          <p:cNvSpPr/>
          <p:nvPr/>
        </p:nvSpPr>
        <p:spPr>
          <a:xfrm>
            <a:off x="262080" y="5924520"/>
            <a:ext cx="31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dlegongbuwarac.edupia.com/xmlPrint.aspx?did=20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입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ut on, 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배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ar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만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기다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주무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leep (h.f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오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om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부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rite (bitte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마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수시다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xerci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타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ide, boa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9-17T02:02:25Z</dcterms:modified>
  <cp:revision>61</cp:revision>
  <dc:subject/>
  <dc:title>KOREAN LANGUAGE</dc:title>
</cp:coreProperties>
</file>